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ind.wav" ContentType="audio/x-wav"/>
  <Override PartName="/ppt/media/chimes.wav" ContentType="audio/x-wav"/>
  <Override PartName="/ppt/media/image5.png" ContentType="image/png"/>
  <Override PartName="/ppt/media/whoosh.wav" ContentType="audio/x-wav"/>
  <Override PartName="/ppt/media/image8.png" ContentType="image/png"/>
  <Override PartName="/ppt/media/hammer.wav" ContentType="audio/x-wav"/>
  <Override PartName="/ppt/media/click.wav" ContentType="audio/x-wav"/>
  <Override PartName="/ppt/media/image7.jpeg" ContentType="image/jpeg"/>
  <Override PartName="/ppt/media/image1.png" ContentType="image/png"/>
  <Override PartName="/ppt/media/image3.png" ContentType="image/png"/>
  <Override PartName="/ppt/media/drumroll.wav" ContentType="audio/x-wav"/>
  <Override PartName="/ppt/media/image2.wmf" ContentType="image/x-wmf"/>
  <Override PartName="/ppt/media/push.wav" ContentType="audio/x-wav"/>
  <Override PartName="/ppt/media/image4.png" ContentType="image/png"/>
  <Override PartName="/ppt/media/coin.wav" ContentType="audio/x-wav"/>
  <Override PartName="/ppt/media/image6.jpeg" ContentType="image/jpeg"/>
  <Override PartName="/ppt/media/applause.wav" ContentType="audio/x-wav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99A-1511-4031-A632-D07693B4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751-A963-4C23-A753-828E65BF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6AA-BD06-40AC-84F9-10DE963C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DD9-234D-46E3-8F30-8817C5FE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04C3-02C2-4AE4-8019-246EB827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9FFA-D45D-428A-8646-0AD110FA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9DAC-EEC7-4ECD-A925-24542EA0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A587-9E33-46A3-B004-BB01FDC6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AE51-2595-4A8C-B885-C23FEBBF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0D6A-12A3-463F-94AA-2284E62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822-190D-44C4-A9D1-BB8A239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841-656A-47FE-8DC2-7797836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FB3-A1D5-4EFE-AA88-30F0564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05EF-C88E-4E78-B478-EAB920D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685-A1A5-47AA-9C19-5690149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DAD3-5801-4D0F-A8C9-D3BB37F5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E4A-1C95-4D49-8579-1152DBB6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585-B8CD-49A7-BFE0-F97A70A9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14E-E494-4D50-B0D0-1CAAFAFE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213-F7C7-4DA9-B6D4-27B85C45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ED4-8E40-42C0-8590-D57ADA2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528-D3D8-4D3F-AB0B-C9F94EC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680-DD7A-457A-B4E6-912FD98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B3E-2E3F-4BE6-AD31-C452AB3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A669-5BE5-4414-B23E-EF2C6E40AF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4CAD-0329-482D-A27B-828733072D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a1c5"/>
            </a:gs>
            <a:gs pos="50000">
              <a:srgbClr val="ffd4b7"/>
            </a:gs>
            <a:gs pos="100000">
              <a:srgbClr val="b1a1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8000" y="40428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Classi III A e III B </a:t>
            </a:r>
            <a:br>
              <a:rPr sz="5400"/>
            </a:b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di Burago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71280" y="2420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19 aprile 2007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Incontro con i ragazzi di Bucare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“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UN NASO ROSSO CONTRO</a:t>
            </a:r>
            <a:r>
              <a:rPr b="1" lang="en-US" sz="4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INDIFFERENZA “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2349360"/>
          <a:ext cx="130500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1305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66764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1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50000">
              <a:srgbClr val="e5eef7"/>
            </a:gs>
            <a:gs pos="100000">
              <a:srgbClr val="ccd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3f7fb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3300"/>
                </a:solidFill>
                <a:latin typeface="Scruff LET"/>
              </a:rPr>
              <a:t>Un naso rosso</a:t>
            </a:r>
            <a:r>
              <a:rPr b="1" lang="en-US" sz="7200" spc="-1" strike="noStrike">
                <a:solidFill>
                  <a:srgbClr val="ff3300"/>
                </a:solidFill>
                <a:latin typeface="Scruff LET"/>
              </a:rPr>
              <a:t> …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000" y="1773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rrington"/>
              </a:rPr>
              <a:t>Si può avere per</a:t>
            </a:r>
            <a:r>
              <a:rPr b="1" lang="en-US" sz="2800" spc="-1" strike="noStrike">
                <a:solidFill>
                  <a:srgbClr val="000000"/>
                </a:solidFill>
                <a:latin typeface="Harringto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fredd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raffreddo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iant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ug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gran ride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2997360"/>
            <a:ext cx="1582920" cy="165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3645000"/>
            <a:ext cx="217440" cy="288720"/>
          </a:xfrm>
          <a:prstGeom prst="ellipse">
            <a:avLst/>
          </a:prstGeom>
          <a:solidFill>
            <a:srgbClr val="f3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667640" y="5734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0509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2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2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2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2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2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2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ef7"/>
            </a:gs>
            <a:gs pos="5000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… </a:t>
            </a: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contro l’indifferenza</a:t>
            </a:r>
            <a:endParaRPr b="1" lang="en-US" sz="6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Ma tu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conosc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Il significato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del termine</a:t>
            </a:r>
            <a:r>
              <a:rPr b="1" lang="en-US" sz="4000" spc="-1" strike="noStrike">
                <a:solidFill>
                  <a:srgbClr val="000000"/>
                </a:solidFill>
                <a:latin typeface="Orland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iller"/>
              </a:rPr>
              <a:t>“ </a:t>
            </a: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1" action="ppaction://hlinksldjump"/>
              </a:rPr>
              <a:t>indifferenz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” 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055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2" action="ppaction://hlinksldjump"/>
              </a:rPr>
              <a:t>Quando</a:t>
            </a: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3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i è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indifferenti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ai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che qualcu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ha provato a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4" action="ppaction://hlinksldjump"/>
              </a:rPr>
              <a:t>non essere indifferente</a:t>
            </a:r>
            <a:r>
              <a:rPr b="0" lang="en-US" sz="2400" spc="-1" strike="noStrike" u="sng">
                <a:solidFill>
                  <a:srgbClr val="3f2fb5"/>
                </a:solidFill>
                <a:uFillTx/>
                <a:latin typeface="VAGRounded BT"/>
                <a:hlinkClick r:id="rId5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AGRounde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5157720"/>
            <a:ext cx="79236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 BT"/>
              </a:rPr>
              <a:t>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157720"/>
            <a:ext cx="79200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7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67 L -0.125 0.28767 L 0 0 Z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1 0.075 -0.08257 0.125 -0.08257 C 0.175 -0.08257 0.22 -0.05061 0.25 0 C 0.22 0.05061 0.175 0.08257 0.125 0.08257 C 0.075 0.08257 0.03 0.05061 0 0 Z"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6136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Indifferenza </a:t>
            </a:r>
            <a:r>
              <a:rPr b="1" lang="en-US" sz="8800" spc="-1" strike="noStrike">
                <a:solidFill>
                  <a:srgbClr val="3f2fb5"/>
                </a:solidFill>
                <a:latin typeface="Curlz MT"/>
              </a:rPr>
              <a:t>?</a:t>
            </a:r>
            <a:r>
              <a:rPr b="1" lang="en-US" sz="4800" spc="-1" strike="noStrike">
                <a:solidFill>
                  <a:srgbClr val="77a4af"/>
                </a:solidFill>
                <a:latin typeface="Curlz MT"/>
              </a:rPr>
              <a:t> </a:t>
            </a:r>
            <a:endParaRPr b="1" lang="en-US" sz="4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9152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… 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significa …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Atteggiamento di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noncuranza, di freddezza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di distacco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 nei confronti di qualcuno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quando</a:t>
            </a:r>
            <a:endParaRPr b="1" lang="en-US" sz="8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628640"/>
            <a:ext cx="7561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n si aiuta chi è in difficol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po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amma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casa o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ve in paesi dove c’è la 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maltra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da mang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15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7a4af"/>
                </a:solidFill>
                <a:latin typeface="Curlz MT"/>
              </a:rPr>
              <a:t>Non essere indifferente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Miloud ha aiutato i ragazzi in difficoltà insegnandogli anche l’arte circense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Come ai ragazzi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di Bucarest</a:t>
            </a:r>
            <a:r>
              <a:rPr b="1" lang="it-IT" sz="28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1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2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2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2d"/>
            </a:gs>
            <a:gs pos="100000">
              <a:srgbClr val="bfb1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67280" y="2349360"/>
            <a:ext cx="4465440" cy="3527640"/>
          </a:xfrm>
          <a:prstGeom prst="rect">
            <a:avLst/>
          </a:prstGeom>
          <a:gradFill rotWithShape="0">
            <a:gsLst>
              <a:gs pos="0">
                <a:srgbClr val="f30309"/>
              </a:gs>
              <a:gs pos="50000">
                <a:srgbClr val="725991"/>
              </a:gs>
              <a:gs pos="100000">
                <a:srgbClr val="f3030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276640"/>
            <a:ext cx="3095640" cy="3960720"/>
          </a:xfrm>
          <a:prstGeom prst="rect">
            <a:avLst/>
          </a:prstGeom>
          <a:gradFill rotWithShape="0">
            <a:gsLst>
              <a:gs pos="0">
                <a:srgbClr val="725991"/>
              </a:gs>
              <a:gs pos="50000">
                <a:srgbClr val="f30309"/>
              </a:gs>
              <a:gs pos="100000">
                <a:srgbClr val="7259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25992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it-IT" sz="6600" spc="-1" strike="noStrike">
                <a:solidFill>
                  <a:srgbClr val="f9071e"/>
                </a:solidFill>
                <a:latin typeface="Jokerman"/>
              </a:rPr>
              <a:t>Ed eccoli qui !!</a:t>
            </a:r>
            <a:br>
              <a:rPr sz="6600"/>
            </a:br>
            <a:br>
              <a:rPr sz="4000"/>
            </a:br>
            <a:endParaRPr b="1" lang="en-US" sz="66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748240" cy="366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59280" y="609300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2f34"/>
                </a:solidFill>
                <a:latin typeface="Jokerman"/>
              </a:rPr>
              <a:t>Cia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6165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2fb5"/>
            </a:gs>
            <a:gs pos="100000">
              <a:srgbClr val="6558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280360" cy="6174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028000" y="587700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b9c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5:32:08Z</dcterms:created>
  <dc:creator>Stefania Mambretti</dc:creator>
  <dc:description/>
  <dc:language>en-US</dc:language>
  <cp:lastModifiedBy>Stefania Mambretti</cp:lastModifiedBy>
  <dcterms:modified xsi:type="dcterms:W3CDTF">2007-05-06T17:09:54Z</dcterms:modified>
  <cp:revision>15</cp:revision>
  <dc:subject/>
  <dc:title>Un naso rosso …</dc:title>
</cp:coreProperties>
</file>